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1092240"/>
            <a:ext cx="8564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2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5640" y="1092240"/>
            <a:ext cx="8564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23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-34776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2392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06440" indent="-28584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822320" indent="-33336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822320" indent="-333360">
              <a:lnSpc>
                <a:spcPct val="8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822320" indent="-333360">
              <a:lnSpc>
                <a:spcPct val="8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6605640"/>
            <a:ext cx="10082160" cy="9460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9360" y="9360"/>
            <a:ext cx="10077480" cy="755208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1092240"/>
            <a:ext cx="85644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55280" y="6887880"/>
            <a:ext cx="20970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443040" y="6887880"/>
            <a:ext cx="318924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0"/>
            <a:ext cx="10077480" cy="7551720"/>
          </a:xfrm>
          <a:prstGeom prst="rect">
            <a:avLst/>
          </a:prstGeom>
          <a:noFill/>
          <a:ln w="19080">
            <a:solidFill>
              <a:srgbClr val="98a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0"/>
            <a:ext cx="10077480" cy="7551720"/>
          </a:xfrm>
          <a:prstGeom prst="rect">
            <a:avLst/>
          </a:prstGeom>
          <a:noFill/>
          <a:ln w="19080">
            <a:solidFill>
              <a:srgbClr val="98a4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0440" indent="-34776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2392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06440" indent="-28584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822320" indent="-333360">
              <a:lnSpc>
                <a:spcPct val="87000"/>
              </a:lnSpc>
              <a:spcBef>
                <a:spcPts val="9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822320" indent="-333360">
              <a:lnSpc>
                <a:spcPct val="8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822320" indent="-333360">
              <a:lnSpc>
                <a:spcPct val="8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760" y="342720"/>
            <a:ext cx="967284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king About EMCOMM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Planning</a:t>
            </a:r>
            <a:br>
              <a:rPr sz="48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.C. ARES November 2007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39920"/>
            <a:ext cx="6578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Tahoma"/>
              </a:rPr>
              <a:t>D. D. Frydenlund  KG6L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6200" y="18396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MCOMM Communications Layer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13971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evel 1 - State OES Regional EOC to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Operational Area (County) EOC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evel 2 - Op Area EOC to Juristictions and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Emergency Alert System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evel 3 - Op Area EOC to Mobile Uni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------------------------- CERT? --------------------------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evel 4 - Jurisdiction OEC to Internal Uni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Level 5 - Jurisdiction Internal Unit Intra Unit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4880" y="452160"/>
            <a:ext cx="85662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imary CERT Communications Need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0680" y="2036880"/>
            <a:ext cx="782316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eport Stat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equest Resourc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eceive Direc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eceive Inform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1120320"/>
            <a:ext cx="85662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imary CERT Communications Net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720440" y="2224080"/>
            <a:ext cx="78231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eam to OpCen (Level 4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nter Team  (Level 5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ntra Team  (Level 5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4880" y="20304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Characteristic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0680" y="1814040"/>
            <a:ext cx="78231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to OpC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tructured/Form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irected Net Like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Brief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tended Ran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xed Chann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4880" y="20304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Characteristic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50680" y="1397160"/>
            <a:ext cx="782316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ter Team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formal/Conversation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formal Net Like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Brief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horter Ran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lexible Chann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4880" y="20304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Characteristic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750680" y="1766880"/>
            <a:ext cx="78231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tra Te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nformal/Conversation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Leader Moderate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inuous Chat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ne of Sigh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xed Channel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4880" y="20304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Environmen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82760" y="1627200"/>
            <a:ext cx="9077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ectrum (Bandwidth) Limi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Heavy Official Need/U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Heavy “Idiot” U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ots of Interfer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4880" y="20304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Doctrine Respons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6200" y="1627200"/>
            <a:ext cx="90932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se Spectrum (Bandwidth) Wise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se Privacy Tones Wise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o Not Interfere With Oth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requency Sele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owest Useful Pow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2800" y="59328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voiding Interfer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23600" y="1773360"/>
            <a:ext cx="776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eparation B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ones (PT or CTCS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0200" y="669600"/>
            <a:ext cx="866304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CERT Communications Tool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11000" y="2084400"/>
            <a:ext cx="782316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RS Radi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MRS Radi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AM Radi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VHF (2 Met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HF (70 Centimeter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760" y="342720"/>
            <a:ext cx="967284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king About EMCOMM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Planning</a:t>
            </a:r>
            <a:br>
              <a:rPr sz="48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.C. ARES November 2007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3048120"/>
            <a:ext cx="982044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A One Hour Primer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Emergency Communication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5240" y="365040"/>
            <a:ext cx="1224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93560" y="587520"/>
            <a:ext cx="7823160" cy="63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FRS Radio/GMRS Radio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“New” Citizen's Ban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~465 Mhz FM Vo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2 Channe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7 F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8 GM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7 Share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16040" y="777960"/>
            <a:ext cx="86742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FRS Fe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Unlicen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Very Low P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Poor Antennas (By Law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Low Range (Typ &lt; 1 Mil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Channels 8 – 14 Exclu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777960"/>
            <a:ext cx="901224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GMRS Fe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Licen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Low P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Better Antennas Allow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Low Range (Typ &lt; 2 Mil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Channels 15 – 22 Exclus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5240" y="365040"/>
            <a:ext cx="1224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49320" y="584280"/>
            <a:ext cx="8253360" cy="61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FRS Radio/GMRS Radio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ivacy Tones (PT or CTCSS) on FRS/GMRS Radios are NOT Standardized by Number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nly by Frequency.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f used:    ALWAYS TE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3080" y="108000"/>
            <a:ext cx="9607320" cy="66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HAM Radio Fe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Licen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Variable Po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Better Antenn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Variable Range (HT &lt; 2 Mil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Mobile &gt; 10 M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Repeater - 10's of M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Many Frequenc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Standardized CTCSS T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2800" y="59328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voiding Interfer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623600" y="1773360"/>
            <a:ext cx="776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eparation B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ffff"/>
                </a:solidFill>
                <a:latin typeface="Arial"/>
              </a:rPr>
              <a:t>Frequen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ones (PT or CTCS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1120320"/>
            <a:ext cx="85662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imary CERT Communications Net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86960" y="2254320"/>
            <a:ext cx="90867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eam to OpCen (</a:t>
            </a:r>
            <a:r>
              <a:rPr b="1" lang="en-GB" sz="4800" spc="-1" strike="noStrike" u="sng">
                <a:solidFill>
                  <a:srgbClr val="00ffff"/>
                </a:solidFill>
                <a:uFillTx/>
                <a:latin typeface="Arial"/>
              </a:rPr>
              <a:t>HAM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, GMR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nter Team  (HAM, </a:t>
            </a:r>
            <a:r>
              <a:rPr b="1" lang="en-GB" sz="4800" spc="-1" strike="noStrike" u="sng">
                <a:solidFill>
                  <a:srgbClr val="00ffff"/>
                </a:solidFill>
                <a:uFillTx/>
                <a:latin typeface="Arial"/>
              </a:rPr>
              <a:t>GMRS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, FR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ntra Team  (</a:t>
            </a:r>
            <a:r>
              <a:rPr b="1" lang="en-GB" sz="4800" spc="-1" strike="noStrike" u="sng">
                <a:solidFill>
                  <a:srgbClr val="00ffff"/>
                </a:solidFill>
                <a:uFillTx/>
                <a:latin typeface="Arial"/>
              </a:rPr>
              <a:t>FRS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0800" y="9504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equency Assignmen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04560" y="1379520"/>
            <a:ext cx="696132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stablishing Contac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gh U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pecial Applic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mporary U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hared U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5040" y="-36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ecial Static Frequencie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09440" y="1181160"/>
            <a:ext cx="907092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alling Frequenc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sed to Establish Cont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RS/GMRS Channel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AM 2 Meter  146.52 Mhz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AM 70 cm  446.0 Mhz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peater Pai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tected Ne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alling Frequenc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4040" y="375840"/>
            <a:ext cx="90885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S/GMRS Recommendation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7428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alling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nnel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eam Assignment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RS 8 – 1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hared 2 – 7 (Work Down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pArea Assign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MRS 15 – 22 (Work Down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6120" y="523800"/>
            <a:ext cx="85662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72680" y="1554120"/>
            <a:ext cx="9070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Failure to Plan i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lanning to Fail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2800" y="59328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voiding Interfer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623600" y="1773360"/>
            <a:ext cx="776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eparation B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ffff"/>
                </a:solidFill>
                <a:latin typeface="Arial"/>
              </a:rPr>
              <a:t>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ones (PT or CTCS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40752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ime Assignmen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1535040"/>
            <a:ext cx="93549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xed Slots by Fun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X Channel “Local on the 8's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xed Rot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ormal Order of “Turns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rvice Request (By Priority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rst to Fill the Vacanc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2800" y="59328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voiding Interfer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23600" y="1773360"/>
            <a:ext cx="776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eparation B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ffff"/>
                </a:solidFill>
                <a:latin typeface="Arial"/>
              </a:rPr>
              <a:t>Sp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ones (PT or CTCS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61960" y="1477800"/>
            <a:ext cx="205272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2600" y="1446120"/>
            <a:ext cx="205272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5480" y="3686040"/>
            <a:ext cx="205272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30520"/>
            <a:ext cx="205272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3240" y="434880"/>
            <a:ext cx="654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Tahoma"/>
              </a:rPr>
              <a:t>Separation by Sp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70360" y="1119240"/>
            <a:ext cx="205236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62560" y="1182600"/>
            <a:ext cx="205272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59360" y="2441520"/>
            <a:ext cx="2052360" cy="1974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2400" y="4867200"/>
            <a:ext cx="58975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Needs Separation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Frequency or 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2800" y="59328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Avoiding Interfer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23600" y="1773360"/>
            <a:ext cx="776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eparation B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ffff"/>
                </a:solidFill>
                <a:latin typeface="Arial"/>
              </a:rPr>
              <a:t>Tones (PT or CTCSS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71120" y="182160"/>
            <a:ext cx="85662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ivacy Tones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T or CTCS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baudio” Tone (~100hz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ppress Audio Amplifier if Tone is Abse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1120" y="182160"/>
            <a:ext cx="856620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rivacy Tones</a:t>
            </a:r>
            <a:br>
              <a:rPr sz="5400"/>
            </a:b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T or CTCS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02840" y="1647360"/>
            <a:ext cx="9564840" cy="46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dvantag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sks Non-member Transmis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reates Illusion of Non-intere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ot Possible to Hear if Frequenc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ally Open and Fre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42480" y="679320"/>
            <a:ext cx="856620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Sectorizing High Density Communication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18760" y="2476080"/>
            <a:ext cx="90709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 Space Based Method for Maintaining Minimum Interference When There are Many Mobile Team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any = &gt; Available Frequencie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535720" y="2332080"/>
            <a:ext cx="3562200" cy="347328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1.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4160" y="2055960"/>
            <a:ext cx="1031760" cy="144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28080" y="2075040"/>
            <a:ext cx="960480" cy="144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9462960" y="2330280"/>
            <a:ext cx="1800" cy="109224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2960" y="4608360"/>
            <a:ext cx="1800" cy="119700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61240" y="2340000"/>
            <a:ext cx="1316160" cy="130968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532120" y="4400640"/>
            <a:ext cx="1477800" cy="140472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15040" y="3255840"/>
            <a:ext cx="412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76960" y="1836720"/>
            <a:ext cx="412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3240" y="2379600"/>
            <a:ext cx="3484440" cy="3375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7640" y="2395440"/>
            <a:ext cx="3484440" cy="3375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20840" y="2938320"/>
            <a:ext cx="2597040" cy="2256120"/>
          </a:xfrm>
          <a:prstGeom prst="roundRect">
            <a:avLst>
              <a:gd name="adj" fmla="val 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30280" y="233280"/>
            <a:ext cx="732168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Communications Rad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  <a:ea typeface="Tahoma"/>
              </a:rPr>
              <a:t>Vs Gr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51552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ommunications Discipline</a:t>
            </a:r>
            <a:br>
              <a:rPr sz="48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etting the Message Through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79480" y="1644480"/>
            <a:ext cx="8112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learly Assigned Responsibil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stablished Rou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terference Pl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dundancy/Robustnes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stablished Protoco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0600" y="2954160"/>
            <a:ext cx="3562560" cy="3473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5520" y="466560"/>
            <a:ext cx="3562200" cy="2525760"/>
          </a:xfrm>
          <a:prstGeom prst="roundRect">
            <a:avLst>
              <a:gd name="adj" fmla="val 60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1360" y="2954160"/>
            <a:ext cx="3562560" cy="3473640"/>
          </a:xfrm>
          <a:prstGeom prst="roundRect">
            <a:avLst>
              <a:gd name="adj" fmla="val 42"/>
            </a:avLst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74760" y="436680"/>
            <a:ext cx="3562200" cy="2541600"/>
          </a:xfrm>
          <a:prstGeom prst="roundRect">
            <a:avLst>
              <a:gd name="adj" fmla="val 60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22680" y="1320840"/>
            <a:ext cx="4074840" cy="4106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35280" y="185760"/>
            <a:ext cx="6594480" cy="6391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2800" y="3394080"/>
            <a:ext cx="2327400" cy="2209680"/>
          </a:xfrm>
          <a:prstGeom prst="roundRect">
            <a:avLst>
              <a:gd name="adj" fmla="val 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00440" y="3218040"/>
            <a:ext cx="676080" cy="144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76600" y="3230640"/>
            <a:ext cx="627120" cy="144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349960" y="3392280"/>
            <a:ext cx="1440" cy="69516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49960" y="4842000"/>
            <a:ext cx="1440" cy="76176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237200" y="3398400"/>
            <a:ext cx="860400" cy="83340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781000" y="4710240"/>
            <a:ext cx="966600" cy="89352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16520" y="638280"/>
            <a:ext cx="1089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  <a:ea typeface="Tahoma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0480" y="1154160"/>
            <a:ext cx="2327400" cy="2209680"/>
          </a:xfrm>
          <a:prstGeom prst="roundRect">
            <a:avLst>
              <a:gd name="adj" fmla="val 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16680" y="977760"/>
            <a:ext cx="676080" cy="180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94640" y="990720"/>
            <a:ext cx="626760" cy="144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666200" y="1153800"/>
            <a:ext cx="1440" cy="69516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6200" y="2603520"/>
            <a:ext cx="1440" cy="762120"/>
          </a:xfrm>
          <a:prstGeom prst="line">
            <a:avLst/>
          </a:prstGeom>
          <a:ln w="18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554880" y="1160280"/>
            <a:ext cx="860400" cy="83340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97240" y="2470320"/>
            <a:ext cx="966600" cy="893520"/>
          </a:xfrm>
          <a:prstGeom prst="line">
            <a:avLst/>
          </a:prstGeom>
          <a:ln w="18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4360" y="2940120"/>
            <a:ext cx="1089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  <a:ea typeface="Tahoma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0280" y="1128600"/>
            <a:ext cx="89596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Rectangular Pattern, Four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A B C D A B C D A B C D A B C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C D A B C D A B C D A B C D A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A B C D A B C D A B C D A B C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C D A B C D A B C D A B C D A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95360" y="1593720"/>
            <a:ext cx="76708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rims Hex Paper"/>
                <a:ea typeface="Tahoma"/>
              </a:rPr>
              <a:t>12121212121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0240" y="172260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00520" y="354348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5840" y="26431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3680" y="45133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5384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3600" y="20192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48280" y="2949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879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79124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84880" y="232740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0480" y="3246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4520" y="41576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2800" y="44830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4560" y="26431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72080" y="2009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23162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9280" y="35528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37120" y="5424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79640" y="16923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4960" y="29401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49920" y="3879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84880" y="48006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48120" y="16923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1480" y="202896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2800" y="26319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84880" y="2949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7120" y="35528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72080" y="45133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44000" y="48099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7040" y="5424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29560" y="38894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18400" y="20192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48120" y="16923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44000" y="29304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49920" y="45036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84880" y="54435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18040" y="1712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6431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35924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00520" y="23256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24320" y="32367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9280" y="41860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22680" y="51372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11160" y="2316240"/>
            <a:ext cx="39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55840" y="32367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9640" y="41860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4320" y="511668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92800" y="32655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6760" y="16923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8640" y="23256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11160" y="2938320"/>
            <a:ext cx="39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55840" y="38592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0800" y="47894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30840" y="265284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37120" y="4176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72080" y="51372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03960" y="35528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29560" y="449280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34280" y="54324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0920" y="32558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75520" y="1712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38920" y="26431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53360" y="35622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2558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37120" y="23065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55840" y="2009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0800" y="2949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49560" y="47800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07040" y="416736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4320" y="38592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11160" y="5413320"/>
            <a:ext cx="39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40560" y="511668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02160" y="38782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33680" y="201924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9280" y="29289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2160" y="3879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37120" y="48196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53360" y="1701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05600" y="23256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30840" y="3246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84880" y="417672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18400" y="509580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79640" y="542304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44680" y="44830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0240" y="3543480"/>
            <a:ext cx="39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55840" y="51274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0880" y="418788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2040" y="4809960"/>
            <a:ext cx="39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03440" y="762120"/>
            <a:ext cx="6369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  <a:ea typeface="Tahoma"/>
              </a:rPr>
              <a:t>Hexagonal Grid, Seven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93560" y="601560"/>
            <a:ext cx="92329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Rectangular Pattern, Eight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A B C D E F G H A B C D E F G 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D E F G H A B C D E F G H A B 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G H A B C D E F G H A B C D E 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B C D E F G H A B C D E F G H 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E F G H A B C D E F G H A B C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H A B C D E F G H A B C D E F 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C D E F G H A B C D E F G H A B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F G H A B C D E F G H A B C D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8000" y="771480"/>
            <a:ext cx="978228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Rectangular Pattern, Nine 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A B C D E F G H I A B C D E F G H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D E F G H I A B C D E F G H I A B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G H I A B C D E F G H I A B C D E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A B C D E F G H I A B C D E F G H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D E F G H I A B C D E F G H I A B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Tahoma"/>
              </a:rPr>
              <a:t>G H I A B C D E F G H I A B C D E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360" y="2978280"/>
            <a:ext cx="18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37260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Establishing YOUR 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Pla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722400" y="1689120"/>
            <a:ext cx="30733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eep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imple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tupid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5040" y="34092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ommunications Complexity Progressi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009440" y="173628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formal Contro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 Net(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igned Frequenc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y Team or Fun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y Are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y Area and Team and Fun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7840" y="66960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Key Questions: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02920" y="1866960"/>
            <a:ext cx="90709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ow Many Units (Teams) in OpArea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ow Many Frequencies Availabl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ow Frequent is the Traffic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ow Time Critical is the Traffic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is the Range of the Radio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ow Big is the OpArea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280" y="515520"/>
            <a:ext cx="85662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ommunications Discipline</a:t>
            </a:r>
            <a:br>
              <a:rPr sz="48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etting the Message Through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779480" y="1644480"/>
            <a:ext cx="8112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learly Assigned Responsibil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stablished Rout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terference Pl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dundancy/Robustnes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stablished Protoco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4880" y="28548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Responsibilitie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1000" y="1736280"/>
            <a:ext cx="78231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Memb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nderstand Radio U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se Radio Protoc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rol Own Radi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requency/T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0640" y="546120"/>
            <a:ext cx="91818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ypical Intra Team Implication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09440" y="16891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ne FRS Radio Channel (8 – 14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f Inadequate Range, Go GM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formal Net or Chat Mo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o Privacy T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very Team Member Has a Radi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very Team Member Hears Al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50640" y="546120"/>
            <a:ext cx="91818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ypical Inter Team Implication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09440" y="16891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igned or Requested Channel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(GMRS 15 – 22 or HAM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y Need “Calling Frequency”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hared Channel 1 or H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formal Net or Chat Mo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nly Team Communicator Has Radi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nly Leader + Communicator Hea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0640" y="546120"/>
            <a:ext cx="91818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ypical Team/OES Implication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09440" y="16891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igned Channel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(GMRS 15 – 22 and/or HAM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y Use “Calling Frequency”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hared Channel 1 or H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ormal (Directed) Ne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nly Team Communicator Has Radi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nly Leader + Communicator Hea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9440" y="25056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OpCen Comms Team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05960" y="14428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onitors Calling Freq(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erves as Net Contro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intains Record of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pies/Sends Formal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lays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y Assign Sub Nets/Frequenc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ntrols System Transi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1120" y="26640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Team Communicator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7720" y="15667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onitors Calling Freq(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intains Record of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pies/Sends Formal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elays Traffic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gotiates/Establishes Comms Lin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isestablishes Comm Lin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ays Near Team Lead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4040" y="375840"/>
            <a:ext cx="90885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RS/GMRS Recommendation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7428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alling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nnel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eam Assignment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RS 8 – 1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hared 2 – 7 (Work Down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pArea Assign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MRS 15 – 22 (Work Down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8760" y="342720"/>
            <a:ext cx="967284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king About EMCOMM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Planning</a:t>
            </a:r>
            <a:br>
              <a:rPr sz="48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S.C. ARES November 2007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4880" y="28548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Responsibilitie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92320" y="1704960"/>
            <a:ext cx="83563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Communicat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Member +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 Relevant Ne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et Up Out of Team Com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 Comms Protoc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py Record Traffic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4880" y="28548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Responsibilitie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11000" y="1736280"/>
            <a:ext cx="78231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Lead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eam Member +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 Up Line Ne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 Same Level Ne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rol Team Com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Know Comms Protoc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95040"/>
            <a:ext cx="8566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First Job of a Leader is 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EAD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Leader and the Communicator are Normally Different Peop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5173"/>
            </a:gs>
            <a:gs pos="50000">
              <a:srgbClr val="46648d"/>
            </a:gs>
            <a:gs pos="100000">
              <a:srgbClr val="3951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4880" y="285480"/>
            <a:ext cx="85662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CERT Communications Requiremen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2680" y="1611360"/>
            <a:ext cx="78231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heap (Acquire and Operat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Rugged/Reliab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hort Range (&lt; 10 Mile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12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ypically &lt; 1 Mi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59:46Z</dcterms:created>
  <dc:creator>David Frydenlund</dc:creator>
  <dc:description/>
  <dc:language>en-US</dc:language>
  <cp:lastModifiedBy>Madeline</cp:lastModifiedBy>
  <dcterms:modified xsi:type="dcterms:W3CDTF">2007-11-20T18:59:46Z</dcterms:modified>
  <cp:revision>2</cp:revision>
  <dc:subject/>
  <dc:title>Thinking About EMCOMM CERT Communications Planning S.C. ARES November 2007</dc:title>
</cp:coreProperties>
</file>