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3771-9C2C-4BD8-99CE-5CC419309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4F7E-4B03-48AA-968C-C76BA839B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45E3-7563-4D1C-AD59-970500F83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BF02-8025-46BF-946C-42C0C428D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EE83-9468-4F8C-A78D-91A62E815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3915-E964-419D-879C-43184B39E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F0C6-6A5E-4895-8A7F-25B89DF4D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38BB-FBBE-4948-8D16-14D339D52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8D9-8A99-4D11-A77F-ECA5FD126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D445-E97E-495F-BC06-4DB0F6030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5FA9-B93E-434E-94F9-BF7491892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8F29-163D-4618-B989-50099FE9F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CFEE-6431-4B5D-BC01-F4A4DE0D3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A3F3-3454-4774-8235-9A82BA4E7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EAF3-CA1A-44F0-B2BE-D5C161298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4932-EE2A-4E68-8854-27215ADEC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7F6B-6169-499B-83C9-3D0D088D9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01D5-BF32-4A6F-8113-4CA00A54C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4B85-2DC9-45AA-9AAF-26601B6B7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FDB-90F3-4F20-BE83-AF6FD9425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EE6D-F753-4C2D-926C-2432AF007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7AE-2789-4A4D-BD96-A7A441A0A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021F-E1B4-4546-A799-6733CA125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1910-4A1B-4395-B4D3-A4590AE57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6739-2211-4BCE-BE83-78529BF29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4C1-33C7-4D88-BAE6-0EFB68E9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F08-D013-4E2B-AC00-2092B1F8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E6C-2AA9-4C17-85EE-045A3309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E11-20F2-4BF7-8C7A-73DEDEA3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524-2926-4636-82A4-DBC2AA07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EF6-2CC2-4F0E-ADE9-09A87515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980-4FE9-4364-8738-7DE165FF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A97-6F1A-42BF-91E8-4BED00E5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261-2557-4232-8C7D-8907BFD2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13F-3077-41C7-9EB8-6A0D18DC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A3C-3472-4BAB-AE76-1A23359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113-6EFE-41D7-8329-849AE64A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5137-CAAE-4526-82B5-6C26222C1C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2D7-BBB3-4C7C-AC16-DD5C19A92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comm and Digital M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ck Watkins, W6T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chael Radovancevich, KI6J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W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038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WPM                                   100 W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cw20wpm.png"/>
          <p:cNvPicPr/>
          <p:nvPr/>
        </p:nvPicPr>
        <p:blipFill>
          <a:blip r:embed="rId1"/>
          <a:stretch/>
        </p:blipFill>
        <p:spPr>
          <a:xfrm>
            <a:off x="1066680" y="1828800"/>
            <a:ext cx="1752840" cy="1349280"/>
          </a:xfrm>
          <a:prstGeom prst="rect">
            <a:avLst/>
          </a:prstGeom>
          <a:ln w="0">
            <a:noFill/>
          </a:ln>
        </p:spPr>
      </p:pic>
      <p:pic>
        <p:nvPicPr>
          <p:cNvPr id="85" name="CW20wpm.wav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w100wpm.png"/>
          <p:cNvPicPr/>
          <p:nvPr/>
        </p:nvPicPr>
        <p:blipFill>
          <a:blip r:embed="rId3"/>
          <a:stretch/>
        </p:blipFill>
        <p:spPr>
          <a:xfrm>
            <a:off x="5562720" y="1752480"/>
            <a:ext cx="2133360" cy="1382760"/>
          </a:xfrm>
          <a:prstGeom prst="rect">
            <a:avLst/>
          </a:prstGeom>
          <a:ln w="0">
            <a:noFill/>
          </a:ln>
        </p:spPr>
      </p:pic>
      <p:pic>
        <p:nvPicPr>
          <p:cNvPr id="87" name="CW100wpm.wav" descr=""/>
          <p:cNvPicPr/>
          <p:nvPr/>
        </p:nvPicPr>
        <p:blipFill>
          <a:blip r:embed="rId4"/>
          <a:stretch/>
        </p:blipFill>
        <p:spPr>
          <a:xfrm>
            <a:off x="66294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229C-F1BB-4E3E-9A84-1D3DFB432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D3B3-26E1-4305-86F8-46B67629D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21932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ww.w1hkj.com/FldigiHelp/Mode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3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FSK – Multi-frequency Shift Key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different frequencies to denote symbol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ques using concurrent  and/or sequential tones that implement this mo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Error correction – very rob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accurate tu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path D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DA0A-8A81-42DF-B38B-BB60F455F7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1831-6084-4F61-B23B-B42ABEABA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SK -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MFSK16.png"/>
          <p:cNvPicPr/>
          <p:nvPr/>
        </p:nvPicPr>
        <p:blipFill>
          <a:blip r:embed="rId1"/>
          <a:stretch/>
        </p:blipFill>
        <p:spPr>
          <a:xfrm>
            <a:off x="762120" y="2209680"/>
            <a:ext cx="1852560" cy="136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MFSK32.png"/>
          <p:cNvPicPr/>
          <p:nvPr/>
        </p:nvPicPr>
        <p:blipFill>
          <a:blip r:embed="rId2"/>
          <a:stretch/>
        </p:blipFill>
        <p:spPr>
          <a:xfrm>
            <a:off x="5791320" y="2209680"/>
            <a:ext cx="185724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MFSK32.wav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MFSK16.wav" descr=""/>
          <p:cNvPicPr/>
          <p:nvPr/>
        </p:nvPicPr>
        <p:blipFill>
          <a:blip r:embed="rId4"/>
          <a:stretch/>
        </p:blipFill>
        <p:spPr>
          <a:xfrm>
            <a:off x="1447920" y="42670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0" name="Content Placeholder 2"/>
          <p:cNvSpPr/>
          <p:nvPr/>
        </p:nvSpPr>
        <p:spPr>
          <a:xfrm>
            <a:off x="380880" y="3581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FSK 16                                        MFSK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8DAC-69A5-4FBF-A8C5-E9C88F3F6E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1645-FE43-4FA9-8AA1-49122FAA4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95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501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PSK – Binary Phase Shift Key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called PSK [Sometimes 2-PSK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ly narrow bandwid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sensitivity to weak sig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low pow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Can be overdriv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Error Correction is  not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variant called Quarature Phase Shift Keying (QPSK) with error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6A6C-CB27-40C6-B276-06BB19B92B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843E-115A-48DE-A598-741D8A142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PSK – Soun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3428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SK 125                               BPSK 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E:\ham\DigitalModes\fldigi-win\talk\examples\BPSK\BPSK125.png"/>
          <p:cNvPicPr/>
          <p:nvPr/>
        </p:nvPicPr>
        <p:blipFill>
          <a:blip r:embed="rId1"/>
          <a:stretch/>
        </p:blipFill>
        <p:spPr>
          <a:xfrm>
            <a:off x="1495440" y="1789200"/>
            <a:ext cx="15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E:\ham\DigitalModes\fldigi-win\talk\examples\BPSK\BPSK250.png"/>
          <p:cNvPicPr/>
          <p:nvPr/>
        </p:nvPicPr>
        <p:blipFill>
          <a:blip r:embed="rId2"/>
          <a:stretch/>
        </p:blipFill>
        <p:spPr>
          <a:xfrm>
            <a:off x="5294160" y="1828800"/>
            <a:ext cx="2659320" cy="1360440"/>
          </a:xfrm>
          <a:prstGeom prst="rect">
            <a:avLst/>
          </a:prstGeom>
          <a:ln w="0">
            <a:noFill/>
          </a:ln>
        </p:spPr>
      </p:pic>
      <p:pic>
        <p:nvPicPr>
          <p:cNvPr id="111" name="BPSK125.wav" descr=""/>
          <p:cNvPicPr/>
          <p:nvPr/>
        </p:nvPicPr>
        <p:blipFill>
          <a:blip r:embed="rId3"/>
          <a:stretch/>
        </p:blipFill>
        <p:spPr>
          <a:xfrm>
            <a:off x="190512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BPSK250.wav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9A7B-DCEF-4796-BA20-9AD065DEA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A6F-BCB1-4B8F-9035-75C3B9C6E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03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98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ino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arrier with 18 tone frequency with constant pha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robust, no F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eak signal LF and high speed HF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oEX 11 designed for NVIS (80m at nigh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lerant of tuning issues. [up to 200Hz. offset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CC55-7D24-4E59-91AC-29962DF932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17CC-7483-4B9B-A24E-7517EA5C4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inoEX -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581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oEX 11                      DominoEX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E:\ham\DigitalModes\fldigi-win\talk\examples\Domino\DomEX11.png"/>
          <p:cNvPicPr/>
          <p:nvPr/>
        </p:nvPicPr>
        <p:blipFill>
          <a:blip r:embed="rId1"/>
          <a:stretch/>
        </p:blipFill>
        <p:spPr>
          <a:xfrm>
            <a:off x="1036800" y="2101680"/>
            <a:ext cx="185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E:\ham\DigitalModes\fldigi-win\talk\examples\Domino\DomEX22.png"/>
          <p:cNvPicPr/>
          <p:nvPr/>
        </p:nvPicPr>
        <p:blipFill>
          <a:blip r:embed="rId2"/>
          <a:stretch/>
        </p:blipFill>
        <p:spPr>
          <a:xfrm>
            <a:off x="4902120" y="2155680"/>
            <a:ext cx="2730600" cy="1349640"/>
          </a:xfrm>
          <a:prstGeom prst="rect">
            <a:avLst/>
          </a:prstGeom>
          <a:ln w="0">
            <a:noFill/>
          </a:ln>
        </p:spPr>
      </p:pic>
      <p:pic>
        <p:nvPicPr>
          <p:cNvPr id="123" name="DomEX11.wav" descr=""/>
          <p:cNvPicPr/>
          <p:nvPr/>
        </p:nvPicPr>
        <p:blipFill>
          <a:blip r:embed="rId3"/>
          <a:stretch/>
        </p:blipFill>
        <p:spPr>
          <a:xfrm>
            <a:off x="1828800" y="4495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DomEX22.wav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BAD6-989E-4911-B14E-E4C5A2235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C6F2-ADC1-4B86-B3BA-89D705F17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00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5006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T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gonal Frequency Division Multiplexed m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y redundant Forward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interference and fad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mistuned and still work [100 Hz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t wider than other mo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ons must use same interleav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B24F-A820-4D43-9368-17944A76C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265F-4F5E-4A4C-B808-66DD56CC6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T-63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3352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-63/500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63/2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6CB5-48BE-4CDC-9A1D-4D80D1C647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6439-5BCA-4918-AED4-93A17460F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MT63-500.png"/>
          <p:cNvPicPr/>
          <p:nvPr/>
        </p:nvPicPr>
        <p:blipFill>
          <a:blip r:embed="rId1"/>
          <a:stretch/>
        </p:blipFill>
        <p:spPr>
          <a:xfrm>
            <a:off x="685800" y="1828800"/>
            <a:ext cx="22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MT63-2000.png"/>
          <p:cNvPicPr/>
          <p:nvPr/>
        </p:nvPicPr>
        <p:blipFill>
          <a:blip r:embed="rId2"/>
          <a:stretch/>
        </p:blipFill>
        <p:spPr>
          <a:xfrm>
            <a:off x="609480" y="4724280"/>
            <a:ext cx="6750000" cy="1360440"/>
          </a:xfrm>
          <a:prstGeom prst="rect">
            <a:avLst/>
          </a:prstGeom>
          <a:ln w="0">
            <a:noFill/>
          </a:ln>
        </p:spPr>
      </p:pic>
      <p:pic>
        <p:nvPicPr>
          <p:cNvPr id="137" name="MT63-500.wav" descr=""/>
          <p:cNvPicPr/>
          <p:nvPr/>
        </p:nvPicPr>
        <p:blipFill>
          <a:blip r:embed="rId3"/>
          <a:stretch/>
        </p:blipFill>
        <p:spPr>
          <a:xfrm>
            <a:off x="4038480" y="22096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MT63-2000.wav" descr=""/>
          <p:cNvPicPr/>
          <p:nvPr/>
        </p:nvPicPr>
        <p:blipFill>
          <a:blip r:embed="rId4"/>
          <a:stretch/>
        </p:blipFill>
        <p:spPr>
          <a:xfrm>
            <a:off x="7848720" y="5029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02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01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371600"/>
          <a:ext cx="8229600" cy="4079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 Rate (Bau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s per Min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ndwidth (Hz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SK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SK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SK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SK-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63/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63/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oEx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oEx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0EB-2070-4C30-BA17-D3629D12D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AA78-9326-4B15-B183-A92497247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609480" y="591984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www.w1hkj.com/FldigiHelp/Mode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comm Mess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essages are short, voice trans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hat if you had to se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 of medicines that are needed at a hos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 to a specific incident 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 of evacu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9E4A-E205-4785-BD2E-3DB377AE8F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2008-F351-4B38-BA65-1B2A9C88D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digi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a ten families of digital m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keyboard and file/mail exchan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broadcast mess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Automatic Repeat Request (ARQ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s optional Error Correction tools for f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C6C1-6850-4339-B3BD-A29AB15B4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B682-09ED-49ED-A966-04CCE8D01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digi and Flarq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q implements Automatic Repeat Requ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sage divided into small segments and sent from one station to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gment contains a checksum, a count of the bits in the seg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segment received without the proper number of bits is re-reque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low, but guarantees delive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1693-ABBB-4AC2-B898-2BE5B3CCC1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CC64-2478-4006-9A53-801FE6261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digi and Wr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allows recipient to verify transmission was received correc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its transmission to single or multiple stations.  (Yes, broadcast transmission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sum is embedded in the entire message to insure accurate message is s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63, MFSK, THOR or DOMINOEX recommended as the transfer protoc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B1F2-115E-42E0-B305-826BC535E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5EC0-A26D-44DD-A784-890443373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rq vs Wr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q is used for station to station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sage delivered is guaranteed corr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s can be s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is used for broadcasting a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checksum to use in confirming the message received has no err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u have to re-request if checksum is wro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773-0863-4790-B8F5-73CB07AE7F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874B-B16F-4ECF-9321-499509CF7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digi and NB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EMS = Narrow Band Emergency Messaging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 suite advertising “error free transmission” of text, images and email files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EMS is a specially packaged Windows version of flarq, and fldigi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d for use with Outlook, Thunderbird, etc mail pr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1D2C-D7D0-44DB-81AF-413FFA1750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EF5F-CBF3-4E87-ABFA-E31FA3F2F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a radio, a computer, a soundcard, and a way to cable them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computer cabled to SignaLink USB soundcard box cabled to our radi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use internal soundcard in compu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is free from www.w1hkj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B8D4-8C9E-4C10-BB9B-53B46937D6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BE88-4B8C-46CE-A43A-117972574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digi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Beginner’s Guide at Fldigi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material on Installation at www.pa-sitrep.com/NBEM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use Windows be sure to follow the Calibration procedure at the pa-sitrep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ust configure: ‘Operator’ and ‘Sound Card’ [i.e. Audio] paramet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ing up ‘Rig Control’ i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45DF-47D9-44EF-B334-AE16DAC6C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8665-7C87-45CD-8AC1-3C368E1C0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 Mode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oundcard digital modes us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US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never LS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s: Clover, RTTY, PACKET, AMTOR and PACTOR typically use LS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overdrive. Use less power, particularly loc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D88-620A-43F8-9A12-BA28F1B610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31E7-2D01-41D0-9605-CD40321D2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to T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present no active nets on VHF or UH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M FM 144.35, 145.03, 145.05 allocated for keyboard-to-keybo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M SSB between 144.100 and 144.3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144.300 is FM, below that is SSB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band local plan at: www.n0ary.org/ncpa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arrl.org/FandES/field/regulations/bandplan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D04-2A37-4172-9C4B-D6BFAB86B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34E0-E9D5-4B40-9E0E-1FF4085A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promising technology for Emcom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sometimes awkward to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n active Emcomm user base. Atlantic Division using it. Particularly 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r among non-Emcomm HF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learning curve.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need to address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ED76-89A6-4EB6-BE51-FA1803EAC3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C17D-11B6-4294-83B3-2FC42B386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aging Needs V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capable of supplying voice communic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offer additional hel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ow Band Emergency Messaging System [NBEMS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2051-CC3C-487B-B340-BD8785BF27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9B7-A97E-4290-9F8E-6C2670E67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mode technical description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arrl.org/FandES/field/regulations/techchar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set up see Beginner’s Guide at fldigi site www.w1hkj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set up see www.pa-sitrep.com/NBEM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brate Windows Sound cards: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pa-sitrep.com/NBEMS/fldigi_calibration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6DD6-7060-4054-B465-DE6A0C83A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57E1-60B3-4A22-B06D-9BE68CD7D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B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sed of three related progra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digi – Fast Light Digital Modem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q – Fast Light Automatic Repeat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– Embeds a checksum in a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from www.w1hkj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s on Linux, Mac OSX,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503-B5CB-43AE-911C-270A69A39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0C96-7787-4D0F-9BB3-569B89A46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digital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mputer and a sound card to pass text or data over the 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9FB-0DC2-4638-A2AD-8E4FF42C1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67D3-D94D-4D15-B5F2-917FFE0E0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nsceiver, e.g. an HT, Dual Band mobile, or HF capable rad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with a sound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like using an external sound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735A-7FC1-4C83-AD94-805152783C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1356-A337-4A50-9822-5E587CD8A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ype text into a buffer in the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you hit the transmit but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encodes your text from 8-bit ASCII to another character code, e.g. varico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coded data is passed to a mod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passed to your soundcard to produce aud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to the radio and over the ai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AACA-983B-440C-82A5-EED03C0A32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62CF-9B60-43A8-A9D5-FDF22E5CA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these mod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bandwid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signal-to-noise performa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transmitter power requir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odes also offer built-in automatic error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re particularly good in adverse atmospher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te transmission of long list of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8A46-5A85-4E3B-9810-02683E04D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5730-2A59-42CD-8A1C-EF75E1581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W  - Amplitude Shift Ke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FSK – Multi-frequency Shift Ke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SK – Binary Phase Shift Ke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oEX  - Multi-frequency Shift Ke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63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thogonal Frequency Division Multiple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These examples that follow come from ‘Sights and Sounds of Digital Signals’ at: www.w1hkj.com/FldigiHelp/Modes/index.htm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8BEA-190C-493D-BA40-AF471CBFAB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F303-7339-434F-9976-4B8498441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31:47Z</dcterms:created>
  <dc:creator>John Watkins</dc:creator>
  <dc:description/>
  <dc:language>en-US</dc:language>
  <cp:lastModifiedBy>John Watkins</cp:lastModifiedBy>
  <dcterms:modified xsi:type="dcterms:W3CDTF">2009-11-22T00:09:47Z</dcterms:modified>
  <cp:revision>118</cp:revision>
  <dc:subject/>
  <dc:title>Emcomm and Fldigi</dc:title>
</cp:coreProperties>
</file>